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ADE-1E8E-47E0-82F4-99032C6A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600-154B-4ED3-B9FB-DBEE5AF6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767-AA9F-40A0-83AD-6555C590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FCE-A9A7-4BFB-8462-8594717E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A73-806E-42AE-83F3-2ED4D99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C38-A81F-4B1A-8359-50EB23E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B8D-39B4-423A-8837-4772806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E8B-092F-4A70-A323-7E2B072A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A60-62F3-4BA7-87DC-9CA3A447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63A-FC52-42BD-9079-B6BBB6B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F4F-75EE-4816-AFC4-9A9E9A58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205-9A50-4273-BD2F-1A8D51C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54C-8808-4A37-8231-3BFD01A77BAE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4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ark Reaction - also known as the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vin Cyc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Glucose (C6H12O6)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bsorbs carbon dioxide from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r and combines it with hydroge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om the light reaction (ATP mad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uring light reaction provides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ergy for this proces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b. converts light energy to stored chemic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energy in the bonds of carbohydrat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molecules (sugars &amp; starch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occurs all day and for a short time into the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rk - as long as there is ATP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DP.H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. excess glucose (soluble) is convert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o an insoluble starch for storag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more stable) - mainly in the seed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V. Additional Information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When photosynthesis has stopped, plants use the process of cellular respiration to break down some of their stored carbohydrates for ener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Plants respire all day long but photosynthesis occurs at a faster rate than respi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Consequently, plants give off  oxygen during the day and carbon dioxide at nigh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8040"/>
                </a:solidFill>
                <a:latin typeface="Arial"/>
              </a:rPr>
              <a:t>The End!</a:t>
            </a:r>
            <a:endParaRPr b="0" lang="en-US" sz="7000" spc="-1" strike="noStrike">
              <a:solidFill>
                <a:srgbClr val="008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ccurs in chloroplasts of eukaryotic ce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: To convert light energy into stor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emical energy (fo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Energy is stored in the bonds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bohydrate molecules - sugar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rch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2. All life is dependent on the energ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xed by pla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Plants are called autotrophs o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ducers because they are able 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e their own foo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- traps light energy in the 1st stage of photosynthesis without being permanently changed (catalyst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absorbs all wavelengths (colors) of light except green (and some yellow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ccessory Pig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 xanthophylls - yellows; carotene - orange; anthocyanin - 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urpose: to absorb wavelengths of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that are missed by chlorophyl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324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In the fall, less light and low temperature cause chlorophyll to be damaged.  It breaks down and reveals the other pigments present in the leaf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I.  Factors that Affect Photosynthesis Rate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Carbon Dioxide Avail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nsity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or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16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638680" y="50292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Reaction - occurs only in the presence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(Water Split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. oxygen goes out into the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tmosphe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. energy from broken bonds picked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up and stored as ATP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. hydrogen from water (H) attaches to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NADP (a carrier molecule) to preven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t from reacting with anything el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30:06Z</dcterms:created>
  <dc:creator>Clayton Johns</dc:creator>
  <dc:description/>
  <dc:language>en-US</dc:language>
  <cp:lastModifiedBy>Clayton Johns</cp:lastModifiedBy>
  <dcterms:modified xsi:type="dcterms:W3CDTF">2008-11-11T01:49:15Z</dcterms:modified>
  <cp:revision>3</cp:revision>
  <dc:subject/>
  <dc:title>PHOTOSYNTHESIS</dc:title>
</cp:coreProperties>
</file>